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8CDA-00D1-4555-9522-EFF4DD6E0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acking Allison’s logic/ politics dichot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roman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actor, iii: bureaucratic model: interrelated + this separation problema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3030-E039-4CC7-8E6B-65659C599B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ed three models as separate models, to counter = showing the interconnection b/w two. i.e.: Rational actor weighting arguments of execu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9C63-766D-4121-83D6-5A61A18707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903-9492-49FD-9099-119EC51B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DD0-90B8-4F6D-A577-FC59E860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11F-D8F0-46BF-B793-5FBE7F53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271-2024-4E86-98E2-DFC03DD8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A69F2-268C-4382-8520-C175C18A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3760E-D563-47DD-A2AF-E292651D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03344-3CDD-4F2C-B3B8-441032BA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73B90-3110-438D-92EF-7829DE56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321B4-EABD-47A0-89A7-1353B4DD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CCD7D-CED3-4B2D-869B-83D5FAC5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1872C-7F91-4A06-BB11-BD7AEDF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DC2-CF90-4381-A9AF-4FE87222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10275-8687-48BB-868C-61A88079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370D2-C264-4C00-9AF4-A326BE8C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FDD61-C4AB-4EAF-BE18-0F44EEE2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212D0-F7EE-414C-9B88-E58352A3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B2EED-8C09-446A-B0E7-56CCC7EF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34559-59F7-4999-B8FC-738FE08F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6B640-6491-4C6B-813E-87EB735F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6E61E-8135-4C2A-B373-FB45DFB2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3FAFC-74EB-4029-BAA6-172FFD92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6C79D-EA63-4E55-902A-CE8087F0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027-B927-4A82-8A7E-1C55D935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008EA-07D8-4618-BE7B-58702628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37CEC-97C0-4F9B-8C5E-9E0FF4BA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9E5B9-98EA-4C6A-98D4-AD9E7309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B8CE3-5526-4959-9027-316CE9FA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959AE-FD53-427D-BE2E-B03786B4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CBA47-9003-44A5-8160-F3A90C75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129DF-F2BD-4963-AAC8-9D963EDE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4DFF3-4D1A-4EE3-809C-EE785F64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B11E1-93EE-4ADB-9451-B3B66276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44BD2-A7F8-4619-8116-43A1D430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EA2-22CB-44D5-B360-A0888535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D90C0-141B-4B26-A546-CE015192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7F54E-6A2A-4186-BC69-0507F60C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EECB4-60C8-42AB-97A6-B05C5E88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E207D7-1A5B-4A74-A081-F37D5647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CC7D5-D3E8-4B8C-AA78-74C3C5BB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D1DF2-4E9C-4467-8A4F-D2871395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E46D4-AB35-4933-8B01-DE513A89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6A18C5-2C82-4D96-A0AF-84C5EA3C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A31CD-6D6C-4085-923D-AADA75AC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869D3-EB51-4CD3-9EE6-CF8A4362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9E5-B757-43E3-9188-94FB3F53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9A06B-ED17-4166-911A-AF140826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06400-7588-43A7-B7F1-12D5971E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06BC0-6CC8-4F75-87BB-0DE47E65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F30FE-4EE2-41AD-B34D-D0590D01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C2829-9217-4FF2-854E-C28C2A81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93F75-B9B5-4213-8655-DB8615A7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0D1CE-8AF5-4A95-94A2-57CE182E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5A8D8-B6DA-4DE0-96EC-3CE6713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A91FD-EB1F-42A3-B0CC-798DAF4E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1724E-4506-4440-84D7-F11826C4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85B-1AD9-415B-B6C9-7BABCEBC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F12C1-BB93-44E9-BEC2-E4C2F765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EA085-6147-4C3B-9128-327DBB03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0856A-A5D5-48DD-B198-62457D7F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7B662-F6FD-4C05-A7E0-E0B8409E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39A27-6199-4961-902B-6E2D1D63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936CE2-C5EF-487D-8931-FE27D7A0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B54F7-F069-4248-9313-BDC0DE13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469FE-2FDF-422D-AAA8-15217849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F3D54-84F1-4879-8BC5-5ED5281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3F179-2C0B-4FE1-920F-65735C9F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ACF-DD54-4390-A08E-F965DF8A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1D3A3-A78A-4285-BC91-7144B07C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51E16-5D30-4C46-9C9A-4B4F5843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22C56-2190-4C9C-AF93-457F29AD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D79-274E-4370-8D82-80B14D5B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F0F-1B39-46CC-A8FD-CFA84F59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18BE-8FE7-4934-95D0-284D177E5D04}" type="slidenum">
              <a:rPr b="0" lang="de-CH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9F4A-8FAB-49EA-93FB-ED416FED1200}" type="slidenum">
              <a:rPr b="0" lang="de-CH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FE1A-E118-4259-AEB5-58C9DE1FB725}" type="slidenum">
              <a:rPr b="0" lang="de-CH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BC0D-8A06-483D-ADFD-04D8F464C14E}" type="slidenum">
              <a:rPr b="0" lang="de-CH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7D17-F145-410B-835E-7A91D9FF4EB1}" type="slidenum">
              <a:rPr b="0" lang="de-CH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5BAD-2264-46ED-BA39-57A30F1C8560}" type="slidenum">
              <a:rPr b="0" lang="de-CH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de-CH" sz="2800" spc="-1" strike="noStrike">
                <a:solidFill>
                  <a:srgbClr val="ffffff"/>
                </a:solidFill>
                <a:latin typeface="Arial Black"/>
              </a:rPr>
              <a:t>LOGIC, POLITICS AND FOREIGN POLICY PROCESSES: A CRITIQUE OF THE BUREAUCRATIC POLITICS MODEL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ffffff"/>
                </a:solidFill>
                <a:latin typeface="Candara"/>
              </a:rPr>
              <a:t>Lawrence Freedman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Candara"/>
              </a:rPr>
              <a:t>International Affairs, vol. 52, no. 3, July 1976.</a:t>
            </a:r>
            <a:endParaRPr b="0" i="1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55" name="Straight Connector 3" descr=""/>
          <p:cNvPicPr/>
          <p:nvPr/>
        </p:nvPicPr>
        <p:blipFill>
          <a:blip r:embed="rId1"/>
          <a:stretch/>
        </p:blipFill>
        <p:spPr>
          <a:xfrm>
            <a:off x="231840" y="3627360"/>
            <a:ext cx="8931240" cy="3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456000" y="1544400"/>
            <a:ext cx="422424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Logic/politics dichotomy</a:t>
            </a: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”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Allison’s Models I and III are </a:t>
            </a:r>
            <a:r>
              <a:rPr b="1" i="1" lang="de-CH" sz="1500" spc="-1" strike="noStrike">
                <a:solidFill>
                  <a:srgbClr val="ffffff"/>
                </a:solidFill>
                <a:latin typeface="Candara"/>
              </a:rPr>
              <a:t>not mutually exclusive</a:t>
            </a: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, but two opposing ends of a </a:t>
            </a:r>
            <a:r>
              <a:rPr b="1" i="1" lang="de-CH" sz="1500" spc="-1" strike="noStrike">
                <a:solidFill>
                  <a:srgbClr val="ffffff"/>
                </a:solidFill>
                <a:latin typeface="Candara"/>
              </a:rPr>
              <a:t>continuum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Importance of internal politics ≠ forced into </a:t>
            </a: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bureaucratic politics</a:t>
            </a: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”</a:t>
            </a: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 camp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Argues against Huntingdonian equality of actors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Pulling and hauling within hierarchical power structure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Random clashes in fact patterned and linked to national interest (tactical vs. strategic power)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Suggestion that BPM is only model able to identify and examine internal political factors is unjustified and depends on </a:t>
            </a:r>
            <a:r>
              <a:rPr b="1" i="1" lang="de-CH" sz="1500" spc="-1" strike="noStrike">
                <a:solidFill>
                  <a:srgbClr val="ffffff"/>
                </a:solidFill>
                <a:latin typeface="Candara"/>
              </a:rPr>
              <a:t>narrow view of politics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Model III leads to mis-specification of core political relationships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500" spc="-1" strike="noStrike">
                <a:solidFill>
                  <a:srgbClr val="ffffff"/>
                </a:solidFill>
                <a:latin typeface="Candara"/>
              </a:rPr>
              <a:t>Concentrates on immediate, fragmentary bureacratic battles rather than underlying power structure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 Black"/>
              </a:rPr>
              <a:t>FRIEDMAN’S THESI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456000" y="1544760"/>
            <a:ext cx="42242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Candara"/>
              </a:rPr>
              <a:t>Rational Actor Model (RAM)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Candara"/>
              </a:rPr>
              <a:t>State as unitary actor makes rational decisions (peronified)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Candara"/>
              </a:rPr>
              <a:t>Seek maximisation of utility (national interest)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ndara"/>
              </a:rPr>
              <a:t>New realist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ndara"/>
              </a:rPr>
              <a:t>Seeks one national interest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Candara"/>
              </a:rPr>
              <a:t>Organisational Process Model (OPM)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Candara"/>
              </a:rPr>
              <a:t>Rigid inertial bureaucratic processes within organisations and government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Candara"/>
              </a:rPr>
              <a:t>SOPs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ndara"/>
              </a:rPr>
              <a:t>H</a:t>
            </a:r>
            <a:r>
              <a:rPr b="0" i="1" lang="de-CH" sz="1400" spc="-1" strike="noStrike">
                <a:solidFill>
                  <a:srgbClr val="ffffff"/>
                </a:solidFill>
                <a:latin typeface="Candara"/>
              </a:rPr>
              <a:t>ow people govern foreign policy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Candara"/>
              </a:rPr>
              <a:t>Bureaucratic Politics Model (BPM)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Candara"/>
              </a:rPr>
              <a:t>Reasserts the role of the individual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Candara"/>
              </a:rPr>
              <a:t>Decision making formulated as an internal bargaining process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ndara"/>
              </a:rPr>
              <a:t>I</a:t>
            </a:r>
            <a:r>
              <a:rPr b="0" i="1" lang="de-CH" sz="1400" spc="-1" strike="noStrike">
                <a:solidFill>
                  <a:srgbClr val="ffffff"/>
                </a:solidFill>
                <a:latin typeface="Candara"/>
              </a:rPr>
              <a:t>ndividuals w/in buro argues, involved in to process, though not the decision maker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ndara"/>
              </a:rPr>
              <a:t>Decision making process fragmented. </a:t>
            </a:r>
            <a:endParaRPr b="0" i="1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 Black"/>
              </a:rPr>
              <a:t>ALLISON’S THREE MODEL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456000" y="1544400"/>
            <a:ext cx="422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Uses three models as lenses 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1962 Cuban Missile Crisis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Structure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Explanation of model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View of events through theory 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3 Question structure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Why did USSR place missiles in Cuba?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i.e.: anarchical structure, = need to balance.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Why did the US blockade Cuba?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i.e.: 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Why did the USSR withdraw missiles from Cuba?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 Black"/>
              </a:rPr>
              <a:t>ALLISON’S METHO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456000" y="1544400"/>
            <a:ext cx="422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To show Model III superior to Model I, Allison sets common task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Explanation of outcomes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'selectively delimited state of the real world importantly affected by the action of a government'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Case study for outcomes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Cuban Missile Crisis of 1962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A priori thought to be the most suited to Model I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Case study combed through by lenses of three different models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Model III shown to add significantly to our understanding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700" spc="-1" strike="noStrike">
                <a:solidFill>
                  <a:srgbClr val="ffffff"/>
                </a:solidFill>
                <a:latin typeface="Candara"/>
              </a:rPr>
              <a:t>==thee questions posed explained by mIII better</a:t>
            </a: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LLISON’S ATTEMPT TO SHOW MIII&gt;MI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456000" y="1544400"/>
            <a:ext cx="422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Candara"/>
              </a:rPr>
              <a:t>Allison can only make meaningful distinction between Model I and Model III by placing logic and politics at odds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Candara"/>
              </a:rPr>
              <a:t>Not mutually exclusive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Candara"/>
              </a:rPr>
              <a:t>Should be conceptualised as continuum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Candara"/>
              </a:rPr>
              <a:t>Logic and politics inform each other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Candara"/>
              </a:rPr>
              <a:t>Example: Head of DoD as rational decision-maker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Candara"/>
              </a:rPr>
              <a:t>Legislative (process) vs. Executive (decision)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 Black"/>
              </a:rPr>
              <a:t>THE LOGIC/POLITICS DICHOTOMY ARGUMEN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6" name="Straight Connector 4" descr=""/>
          <p:cNvPicPr/>
          <p:nvPr/>
        </p:nvPicPr>
        <p:blipFill>
          <a:blip r:embed="rId1"/>
          <a:stretch/>
        </p:blipFill>
        <p:spPr>
          <a:xfrm>
            <a:off x="1096920" y="5389560"/>
            <a:ext cx="7162920" cy="363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916560" y="50864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Candara"/>
              </a:rPr>
              <a:t>Model I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0" lang="de-CH" sz="1800" spc="-1" strike="noStrike">
                <a:solidFill>
                  <a:srgbClr val="ffffff"/>
                </a:solidFill>
                <a:latin typeface="Candara"/>
              </a:rPr>
              <a:t>Logic</a:t>
            </a:r>
            <a:r>
              <a:rPr b="0" lang="en-GB" sz="1800" spc="-1" strike="noStrike">
                <a:solidFill>
                  <a:srgbClr val="ffffff"/>
                </a:solidFill>
                <a:latin typeface="Candar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7763400" y="507852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ndara"/>
              </a:rPr>
              <a:t>Model III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Candara"/>
              </a:rPr>
              <a:t>Politics”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456000" y="1544400"/>
            <a:ext cx="422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Overarching power structure ignored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There is a hierarchy of power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Can define policy outcome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Only focuses on the visible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Distinction: Strategic vs. tactical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Tactical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Immediate bureaucratic oppositional methods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Strategic [constructivist]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Manipulation of structure (Pres.)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Sets the framework for the battles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Candara"/>
              </a:rPr>
              <a:t>W</a:t>
            </a: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ar theory 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Ensures the range of outcomes conforms to policy objectives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ffffff"/>
                </a:solidFill>
                <a:latin typeface="Candara"/>
              </a:rPr>
              <a:t>Machiavelli, Sun Tzu: better than tactical battles. </a:t>
            </a: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AGAINST ALLISON’S NARROW VIEW OF POLITIC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456000" y="1544400"/>
            <a:ext cx="422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Candara"/>
              </a:rPr>
              <a:t>Failure to show Model III &gt; Model I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Candara"/>
              </a:rPr>
              <a:t>Fails to completely distinguish them as mutually exclusive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Candara"/>
              </a:rPr>
              <a:t>= artifical seperation 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Candara"/>
              </a:rPr>
              <a:t>Failure to address underlying power structure in Model III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Candara"/>
              </a:rPr>
              <a:t>Myopic Tactical view instead of strategic overview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20:35:29Z</dcterms:created>
  <dc:creator>Joel</dc:creator>
  <dc:description/>
  <dc:language>en-US</dc:language>
  <cp:lastModifiedBy>DELL</cp:lastModifiedBy>
  <dcterms:modified xsi:type="dcterms:W3CDTF">2014-11-13T12:11:14Z</dcterms:modified>
  <cp:revision>24</cp:revision>
  <dc:subject/>
  <dc:title>PowerPoint Presentation</dc:title>
</cp:coreProperties>
</file>